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7E9-8A3F-427A-B563-6764CE1D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F68-E3AC-41DF-B53B-93E10065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19E-9393-4A5C-8738-3E80C175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BB0-6F44-45D2-A99E-D54D466D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751C-4417-46F6-83FA-1438983F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563B-18D7-4D2F-B918-2B667FA0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7246-7D53-46AC-A1F8-1C3DD53E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3BCA-71AA-489D-831D-6C7DC450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67CB-664B-4464-9CE8-37376039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87E8-EFF1-42B8-89BB-372A9566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497B-AE5A-46EF-A530-F8D0570F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745-13F4-4993-830F-2285CF82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69EB-AD9D-4824-83CC-D17C2012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67CC-56D9-48CB-81F8-43FB5E57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0E61-6675-48BA-A584-2B8AD44C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2F81-4B24-4916-B6E2-67BD3FE0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FFC1-8E80-46D2-8FB7-835EA3FB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B53-E997-4409-BE94-42521B97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6DE-08BC-4CC7-B17A-38DD247E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9A3-D7BF-4BF7-B0E5-71692C60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F7E-E9E5-434B-BE80-D665E196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91A-41C4-4CA5-A39D-8BB992D1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8F4-A6AB-4F8B-9664-5042E0AC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936-B056-4245-ADAE-4E7C66BA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6BEB-6FF8-45AF-AD1E-46C1928CF2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1557-A960-4CFE-AB2F-BD6988EAC7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3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Nervous System: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eural Tissu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uron Functional Classif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terneurons= Association Neu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/w sensory &amp; motor neu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ed entirely in brain &amp; spinal 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sis of sensory inpu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ordination of motor outpu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ified as excitatory or inhibi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ervous System:Functional Classification Organiz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5802480" cy="2139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15000" y="1981080"/>
            <a:ext cx="3308400" cy="2886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571500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03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uron Commun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ap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ce between synaptic knob &amp; next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rons communicate wit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neur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Cell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romuscular J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roglandular J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rotransmit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messenger at synap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sting Membrane Potential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tracellular Flui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High in [K+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tracellular Flui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High in [Na+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+/K+ exchange pum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mp 2K+ in and 3 Na+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ing potential: -70mV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on Chann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assive channe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always open &amp; “leak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tive or Gated Channe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hemically regul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neurotransmi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Voltage regul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voltage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chanically regul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physical stim (Merkel’s disc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Neuron Electrical Signal: Action Potential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on Potent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ical sig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mulated by neurotransmitter, voltage change, or physical stimul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es to occu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olarization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reshol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-60 to -55mV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curs in axons &amp; muscle fibers (down T-tubu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action potentials generated are identical (gu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-or-None Response (toll booth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ction Potential Generation: Step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ate voltage-gated Na+ channel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epolar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membrane potential: Na+ 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activate Voltage-gated Na+ chann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30mV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lose &amp;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a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 ope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ate Voltage-Gated K+ channel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polar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 membrane potential (-70mV): K+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o resting membrane potential: -70m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02840" indent="-434160"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tage-gated Na+ channels closed, can op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02840" indent="-434160"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tage-gated K+ channels closing with delay of 1msec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yperpolariz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below -70mV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02840" indent="-434160"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1msec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ormal resting potential (-70mV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on Potential travels to next portion of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ction Potential: Steps &amp; Grap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841640" cy="5867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914400"/>
            <a:ext cx="2768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fractory Periods of Action Potentia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Absolute refractory perio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Repolar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ran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spond to st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opening voltage-gated Na+ channel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nd of action potent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on potential: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n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ion away from so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Relative refractory perio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Hyperpolar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RG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imulus can initiate axn potenti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when voltage-gated Na+ channels are restored to normal (closed but able to open) state, but voltage-gated K+ channels still op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efractory Period &amp; Axn Pot Movemen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33720" y="762120"/>
            <a:ext cx="4938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54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ction Potential Conduction Veloc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elin sh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ontinuous conduc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egment by seg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myelin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x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altatory Conduc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eap from node to n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yelin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xons: ions can’t pass lipid no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www.blackwellpublishing.com/matthews/actionp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on Dia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ype 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rgest, myelinated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astest (300mp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k. mm. motor neurons, balance &amp; L.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ype 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maller, myelinated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dium (40mp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ype 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mallest, unmyelinated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lowest (2mp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B &amp; C carry pain, temp, to smooth mm &amp; gla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tinuous v. Saltatory Con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346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caine Effects on Dopami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211.0)">
                                      <p:cBhvr>
                                        <p:cTn id="531" dur="7789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ther Factors on Rate of A.P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ormo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promote facilitation or inhib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esynaptic inhib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nhibits C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annels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cr postsynaptic stim (i.e. GAB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esynaptic Facilit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keep C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annels op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[Na+, K+, Ca2+]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dehydration or kidney dz)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basi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vulsions, acidic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hibition)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m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a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ordination of activities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ervous Syste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rvous System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ift, brief, tempo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unctions: (motor &amp; sensor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sen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e in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ordinate voluntary &amp; involuntary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ulate &amp; control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Other Neurotransmitters: Excite &amp; Inhibi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863640"/>
            <a:ext cx="82296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P Needs &amp; Produc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P needed f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thesis, release, &amp; recycling 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ment of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very from a.p.: [ion]- Na+/ K+ pum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P Produ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erobic glycolysis (no glucose sto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 uninterrupted blood supply for O2 &amp; 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k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than 1-2 hr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ew weeks to rec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er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man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ch Drugs &amp; Synaptic Func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rug Effec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feres w/ NT synthe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er rate of NT rel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vent NT inactiv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vent NT binding to recep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affe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owers threshold at axon hillock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ore sensitive to stim (facilitation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“jump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Nicot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ind to receptor sites on postsynaptic membrane &amp; stimulate it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enzymes to remove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19360" y="609120"/>
            <a:ext cx="47242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otulinus tox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blocks release Ach at presynaptic membran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r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lack Widow spiders venom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cause massive release of Ach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ramps/ spas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nticholinesterase drug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block breakdown Ach by Ach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xtreme contract (ex: nerve gases, pst contro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trop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revent Ach binding to postsynaptic neuron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ralysis (curare plant extract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rug Effects on Ach Synaps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5535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rvous System Over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Anatomical Divi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ent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ervous System (C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in and spinal c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eriphe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ervous System (P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omat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ervous System (S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utonom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ervous System (A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ympathet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. S.- “flight or figh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arasympathet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. S.- “rest &amp; repos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itc.gsw.edu/faculty/gfisk/anim/index.html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Functional Divisions (based on func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ffer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nsory (muscles/ gland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ffer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otor (CN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les/ gl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5715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ellular Organization in Neural Tissu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Neu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(=Nerve cel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a (cell bod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dr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on &amp; Nodes of Ranvier/ Interno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aptic terminals (knob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uroglia= Glial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cts neur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s suppor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g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uron Diagra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9154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euron Functional Classific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nsory Neu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Afferent fi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NS from ext &amp; int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 bodies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eripheral gang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ensory recepto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pinal 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omatic Sensory Neur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ext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xterocepto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ight, smell, hear, tou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priocepto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position joints &amp;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Visceral Sensory Neur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Interoceptors: internal envmt like visceral systems &amp; taste, deep pressure, p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euron Functional Classific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tor Neu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Efferent fi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NS to effectors (muscles/ gland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mulates or modifies activity of peripheral tissues, organs, organ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omatic Motor Neur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untary skeletal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nal cord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euromuscular j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Visceral Motor Neur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of A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untary peripheral effec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nal Cord (preganglionic fibers)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ipheral ganglion (PNS cell bodies)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stganglionic fiber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ffec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6:31:46Z</dcterms:created>
  <dc:creator>Melissa Hecht</dc:creator>
  <dc:description/>
  <dc:language>en-US</dc:language>
  <cp:lastModifiedBy>jayoig</cp:lastModifiedBy>
  <cp:lastPrinted>2005-01-13T16:23:31Z</cp:lastPrinted>
  <dcterms:modified xsi:type="dcterms:W3CDTF">2010-02-19T18:31:12Z</dcterms:modified>
  <cp:revision>62</cp:revision>
  <dc:subject/>
  <dc:title>The Nervous System: Neural Tissue</dc:title>
</cp:coreProperties>
</file>